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682-14E9-4355-BB23-F2218F26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9C8-FD7B-457B-B4BE-751039F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007-4CCB-413B-BAF6-512DD319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BF3-ADF9-4242-A2EC-950766E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AAC3-C5FE-4AE4-806C-B856FD09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70C-8759-4E40-B1F6-336BD48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E29-73C9-42BA-8CC0-0A4369A0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041-988B-4C7E-BC77-54C85F74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D0C5-1FF1-4C3A-A80D-53332CA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F4C-C161-492A-8595-BD7D705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7F82-6071-4087-9C22-DCF78DD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477-5397-4B15-BC19-2D7E170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C2CA-6260-464E-AE9C-27DC0DE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48E-E0BD-4A23-8FD5-26784FBE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3034-A604-4FF1-8569-DF712B2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5F7F-1DF0-4F8B-96BD-4BBE70A6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03B5-4F8E-4622-B75E-72C2014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9FB8-25AD-4723-BF72-620BC485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AB43-448F-46C4-B048-566BD4B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8036-6276-4553-8106-AF55C095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E5C4-88C4-40CC-9504-E4D1A54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A8EA-146E-495F-A71E-0327519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CAE-93A9-491C-A0E6-D0A697B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4430-6566-4F15-8FEF-9C5F6A5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DF21-73FA-4DD8-9526-0A628FC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0536-2E2A-4BF0-B9A7-BFDAE6B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3284-E927-4B26-B430-CCB4BE0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F346-1AA0-41CF-841A-0C6D40D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A7C3-6A2A-4E39-AEF4-0264AEEF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E8AC-0861-4D60-BAFC-5C1FE30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7F9D-D31D-4C17-B5A1-0940CDC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BA37-B036-4AFF-80FF-D8A6E33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1347-9E24-4F7A-BC91-255E3794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214-2F30-439E-BE3C-4DE05891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C597-1063-4914-8866-3EC1DF6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BD02-1687-4721-AB44-4A47AF4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A254-0157-4843-98C4-23BB3AA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0543-8954-497C-BDEB-964ED75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15F5-E7EA-4675-8D32-3C937E2C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8A58-00FA-4B69-94AD-9E45886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2BE0-5ED0-406A-9606-9F723B9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5C30-CAC3-4E0D-8F38-3053EF25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E08C-06D2-4288-BAC6-2C7853C6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AE2-EB83-4080-98C0-AA8A07B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410-DAB8-4D59-88B3-0AA291A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31A-A211-4FDE-9259-ABF1FD5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9CF-0C0C-4D6A-8E37-F3E4AE5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EC3-5CD7-441E-9667-3506DF6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E9D-3064-464E-8C67-9FCEAAADDF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1B0-63B6-4607-8B60-6F2C8F893D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0C3-F177-4CDF-A2BB-96DFAE1F96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59EA-894D-4FFA-9BBB-5ED24D263C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queuing technolo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processed using SEND and RECEIVE instead of SELECT and INSE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sent as an XML data in a binary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ues can be processed automatically or o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be sent within the database, to another database on the server, or to a database on a remote 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y is guaranteed, and in the order 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are processed once and only once, in the order recei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range in size from single bytes to mega-bytes in size (max size of ~1GB per mess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SSB Que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conversation_end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transmission_que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dbo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ueueN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technet.microsoft.com/en-us/library/ms166044.aspx - Good SSB troubleshooting 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2:13:26Z</dcterms:created>
  <dc:creator>Denny</dc:creator>
  <dc:description/>
  <dc:language>en-US</dc:language>
  <cp:lastModifiedBy>Denny</cp:lastModifiedBy>
  <dcterms:modified xsi:type="dcterms:W3CDTF">2008-01-28T23:12:34Z</dcterms:modified>
  <cp:revision>24</cp:revision>
  <dc:subject/>
  <dc:title>SQL Server 2008 Resource Governor</dc:title>
</cp:coreProperties>
</file>